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E766E-1484-4583-BA9A-DADD8D1890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266F-D7AA-4D50-BA33-56C9F43D15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35F1C-7783-4F40-8870-1FAAC750BC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19913-CCF9-4102-995E-46DF372351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BD0F7-E345-4492-909F-39F770AE7F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76365-8048-4CB5-9172-9965D1E39A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A8B4-86DC-47A4-994E-F16ED7BFE9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6F141-B1A7-431E-9DB3-0417196B1C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F3AF4-BD1F-4051-8DBD-6E306C5362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E5D56-8925-4E05-8BE9-8A28B25E4A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4CAF7-62C7-4735-B710-3A99615BE6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FC6A9-AB30-4B2B-8AA5-F483E33375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913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6605-F9D9-47B9-A11A-73E653E6F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51A6-9ADF-450F-AB02-FACF9A84F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583D-F225-4D0B-9585-40CE399C3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42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66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218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42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5066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CF05-0E8B-4F9F-8E90-E715858AC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3BF1-5FA5-4972-8EFB-A7CC3FB9A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1B78-34AB-44B8-B271-72C125427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1AA9-C1B2-449E-8CBE-3F4AFF238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844E-361E-480B-86AE-697B7AE5E7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A81F-0936-4F90-9150-8061669C32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5080" y="237960"/>
            <a:ext cx="91472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6B55-8FB6-4F74-B6DA-5D4942C845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4FB3-EBC9-473D-9F4C-9892B115B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F782-2E3E-49B9-809E-519AB95D6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9200-EA88-4F14-B7EE-B0C967C264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B53D-E9ED-4A80-9D52-FC151E439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D62D-D95A-43FB-AD7B-D0B9C39F4A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FCA8-981B-4550-861B-24A345F575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142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066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18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142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066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D8E0-8830-4791-93F6-E5127BD3C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8664-4981-4946-AA2A-2DD070B99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F957-035D-47AA-A111-F71BDA034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E9F2-9FC1-43CF-BA38-3EA48EA28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25080" y="237960"/>
            <a:ext cx="91472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B9C4-96D0-4BAB-A4D6-9D8483A7F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5AA6-7F13-4DE4-BAA3-1B3C8881C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1F62-4D0A-4AE3-9A50-0FE123DCB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1016-7C5D-46FE-B59A-8AED32AEE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737480" y="6307200"/>
            <a:ext cx="1811160" cy="444600"/>
            <a:chOff x="7737480" y="6307200"/>
            <a:chExt cx="1811160" cy="444600"/>
          </a:xfrm>
        </p:grpSpPr>
        <p:sp>
          <p:nvSpPr>
            <p:cNvPr id="1" name="Rectangle 2"/>
            <p:cNvSpPr/>
            <p:nvPr/>
          </p:nvSpPr>
          <p:spPr>
            <a:xfrm>
              <a:off x="7737480" y="6307200"/>
              <a:ext cx="1811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9166320" y="6475320"/>
              <a:ext cx="155520" cy="160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0800" y="647208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502480" y="6475320"/>
              <a:ext cx="189000" cy="160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34360" y="6475320"/>
              <a:ext cx="130320" cy="1634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1200" y="6475320"/>
              <a:ext cx="130320" cy="160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8191440" y="6475320"/>
              <a:ext cx="103320" cy="1605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8736120" y="6475320"/>
              <a:ext cx="102960" cy="160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867880" y="647532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" name="Picture 1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6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Rectangle 12"/>
          <p:cNvSpPr/>
          <p:nvPr/>
        </p:nvSpPr>
        <p:spPr>
          <a:xfrm>
            <a:off x="0" y="3244680"/>
            <a:ext cx="9906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3"/>
          <p:cNvGrpSpPr/>
          <p:nvPr/>
        </p:nvGrpSpPr>
        <p:grpSpPr>
          <a:xfrm>
            <a:off x="4680" y="3098880"/>
            <a:ext cx="9898200" cy="125280"/>
            <a:chOff x="4680" y="3098880"/>
            <a:chExt cx="9898200" cy="125280"/>
          </a:xfrm>
        </p:grpSpPr>
        <p:sp>
          <p:nvSpPr>
            <p:cNvPr id="13" name="Rectangle 14"/>
            <p:cNvSpPr/>
            <p:nvPr/>
          </p:nvSpPr>
          <p:spPr>
            <a:xfrm>
              <a:off x="4680" y="3098880"/>
              <a:ext cx="3859200" cy="1252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4059360" y="3098880"/>
              <a:ext cx="703080" cy="1252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4998960" y="3098880"/>
              <a:ext cx="233280" cy="1252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5518080" y="3098880"/>
              <a:ext cx="138240" cy="1252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6981840" y="3098880"/>
              <a:ext cx="2921040" cy="1252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Group 19"/>
          <p:cNvGrpSpPr/>
          <p:nvPr/>
        </p:nvGrpSpPr>
        <p:grpSpPr>
          <a:xfrm>
            <a:off x="7737480" y="6307200"/>
            <a:ext cx="1811160" cy="444600"/>
            <a:chOff x="7737480" y="6307200"/>
            <a:chExt cx="1811160" cy="444600"/>
          </a:xfrm>
        </p:grpSpPr>
        <p:sp>
          <p:nvSpPr>
            <p:cNvPr id="19" name="Rectangle 20"/>
            <p:cNvSpPr/>
            <p:nvPr/>
          </p:nvSpPr>
          <p:spPr>
            <a:xfrm>
              <a:off x="7737480" y="6307200"/>
              <a:ext cx="1811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9166320" y="6475320"/>
              <a:ext cx="155520" cy="160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9010800" y="647208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502480" y="6475320"/>
              <a:ext cx="189000" cy="160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8334360" y="6475320"/>
              <a:ext cx="130320" cy="1634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331200" y="6475320"/>
              <a:ext cx="130320" cy="160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8191440" y="6475320"/>
              <a:ext cx="103320" cy="1605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8736120" y="6475320"/>
              <a:ext cx="102960" cy="160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8"/>
            <p:cNvSpPr/>
            <p:nvPr/>
          </p:nvSpPr>
          <p:spPr>
            <a:xfrm>
              <a:off x="8867880" y="647532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" name="Picture 29" descr=""/>
            <p:cNvPicPr/>
            <p:nvPr/>
          </p:nvPicPr>
          <p:blipFill>
            <a:blip r:embed="rId4"/>
            <a:stretch/>
          </p:blipFill>
          <p:spPr>
            <a:xfrm>
              <a:off x="7824960" y="6391440"/>
              <a:ext cx="276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5040" y="666720"/>
            <a:ext cx="56739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ldNum" idx="1"/>
          </p:nvPr>
        </p:nvSpPr>
        <p:spPr>
          <a:xfrm>
            <a:off x="243000" y="6477120"/>
            <a:ext cx="707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961F1430-B503-4974-BC0E-52A4A49E2B58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"/>
          <p:cNvGrpSpPr/>
          <p:nvPr/>
        </p:nvGrpSpPr>
        <p:grpSpPr>
          <a:xfrm>
            <a:off x="7737480" y="6307200"/>
            <a:ext cx="1811160" cy="444600"/>
            <a:chOff x="7737480" y="6307200"/>
            <a:chExt cx="1811160" cy="444600"/>
          </a:xfrm>
        </p:grpSpPr>
        <p:sp>
          <p:nvSpPr>
            <p:cNvPr id="69" name="Rectangle 2"/>
            <p:cNvSpPr/>
            <p:nvPr/>
          </p:nvSpPr>
          <p:spPr>
            <a:xfrm>
              <a:off x="7737480" y="6307200"/>
              <a:ext cx="1811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"/>
            <p:cNvSpPr/>
            <p:nvPr/>
          </p:nvSpPr>
          <p:spPr>
            <a:xfrm>
              <a:off x="9166320" y="6475320"/>
              <a:ext cx="155520" cy="160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9010800" y="6472080"/>
              <a:ext cx="131760" cy="1666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502480" y="6475320"/>
              <a:ext cx="189000" cy="1605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8334360" y="6475320"/>
              <a:ext cx="130320" cy="1634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9331200" y="6475320"/>
              <a:ext cx="130320" cy="160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8191440" y="6475320"/>
              <a:ext cx="103320" cy="1605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8736120" y="6475320"/>
              <a:ext cx="102960" cy="160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8867880" y="647532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560 h 160560"/>
              </a:gdLst>
              <a:ahLst/>
              <a:rect l="textAreaLeft" t="textAreaTop" r="textAreaRight" b="textAreaBottom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" name="Picture 1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612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12"/>
          <p:cNvGrpSpPr/>
          <p:nvPr/>
        </p:nvGrpSpPr>
        <p:grpSpPr>
          <a:xfrm>
            <a:off x="4680" y="1090440"/>
            <a:ext cx="9898200" cy="125640"/>
            <a:chOff x="4680" y="1090440"/>
            <a:chExt cx="9898200" cy="125640"/>
          </a:xfrm>
        </p:grpSpPr>
        <p:sp>
          <p:nvSpPr>
            <p:cNvPr id="80" name="Rectangle 13"/>
            <p:cNvSpPr/>
            <p:nvPr/>
          </p:nvSpPr>
          <p:spPr>
            <a:xfrm>
              <a:off x="4680" y="1090440"/>
              <a:ext cx="385920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4059360" y="1090440"/>
              <a:ext cx="70308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4998960" y="1090440"/>
              <a:ext cx="23328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5518080" y="1090440"/>
              <a:ext cx="13824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6981840" y="1090440"/>
              <a:ext cx="292104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243000" y="6476760"/>
            <a:ext cx="7077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de-DE" sz="1800" spc="-1" strike="noStrike">
                <a:solidFill>
                  <a:srgbClr val="00256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2569"/>
                </a:solidFill>
                <a:latin typeface="Tahoma"/>
              </a:rPr>
              <a:t>Slide: </a:t>
            </a:r>
            <a:fld id="{A9F45B75-7130-4761-A5D2-91AE056D64E3}" type="slidenum">
              <a:rPr b="1" lang="de-DE" sz="1800" spc="-1" strike="noStrike">
                <a:solidFill>
                  <a:srgbClr val="002569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5400" y="666360"/>
            <a:ext cx="56772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NOMEK Course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May DMI 201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956040" y="1991880"/>
            <a:ext cx="569448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entury Gothic"/>
              </a:rPr>
              <a:t>Weather Forecasting Exercise</a:t>
            </a:r>
            <a:endParaRPr b="0" lang="en-US" sz="2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ESTOFEX and Meteoal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50920" y="1846440"/>
            <a:ext cx="4524120" cy="362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5168880" y="1824120"/>
            <a:ext cx="458460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ECMWF total precip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-9360" y="107784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3251160" y="107784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6540480" y="107784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5"/>
          <a:stretch/>
        </p:blipFill>
        <p:spPr>
          <a:xfrm>
            <a:off x="1639800" y="3976560"/>
            <a:ext cx="2895840" cy="288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6"/>
          <a:stretch/>
        </p:blipFill>
        <p:spPr>
          <a:xfrm>
            <a:off x="4890960" y="3976560"/>
            <a:ext cx="289584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2220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In this exercise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we will simulate weather forecasting using a real life example and da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The objective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of this exercise is to learn about forecasting convection by simulating the forecast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This exercise consists of...</a:t>
            </a: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1. Briefing (15 minutes) at “09 UTC”. Briefing material attach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2. Individual or collaborative forecasting (1 hour 15 minutes). Clocks start at 13 UTC and stop at 18/19 UTC. Clocks run 4 times faster than in re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Tahoma"/>
              </a:rPr>
              <a:t>3. Concluding discuss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2569"/>
                </a:solidFill>
                <a:latin typeface="Tahoma"/>
              </a:rPr>
              <a:t>Confusion, Technical problems: ask Ve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2569"/>
                </a:solidFill>
                <a:latin typeface="Tahoma"/>
              </a:rPr>
              <a:t>Forecasting help: ask anyone in the ro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2569"/>
                </a:solidFill>
                <a:latin typeface="Tahoma"/>
              </a:rPr>
              <a:t>Take a break anytime you need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Day Natural Colours RGB 06 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076480" y="1521000"/>
            <a:ext cx="563868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Day Natural Colours RGB 07 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090880" y="1531800"/>
            <a:ext cx="56386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Day Natural Colours RGB 08 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2090880" y="1531800"/>
            <a:ext cx="56386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Day Natural Colours RGB 09 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090880" y="1531800"/>
            <a:ext cx="56386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Surface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2220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-2160720" y="1231920"/>
            <a:ext cx="6875640" cy="5427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734000" y="1157400"/>
            <a:ext cx="517212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Visby sounding 00 U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22200" y="1401840"/>
            <a:ext cx="9148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384200" y="1282680"/>
            <a:ext cx="14860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770040" y="1290600"/>
            <a:ext cx="67896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4924440" y="1528920"/>
            <a:ext cx="4884840" cy="3598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5440" y="237960"/>
            <a:ext cx="91504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Briefing material: 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NWP Vertical profile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Riga &amp;  Stockholm 06 UT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0" y="1519200"/>
            <a:ext cx="4921200" cy="35989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1800360" y="5372280"/>
            <a:ext cx="129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2569"/>
                </a:solidFill>
                <a:latin typeface="Tahoma"/>
              </a:rPr>
              <a:t>Ri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818400" y="5362560"/>
            <a:ext cx="1461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2569"/>
                </a:solidFill>
                <a:latin typeface="Tahoma"/>
              </a:rPr>
              <a:t>Stockho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olestue</dc:creator>
  <dc:description/>
  <dc:language>en-US</dc:language>
  <cp:lastModifiedBy>Vesa Nietosvaara</cp:lastModifiedBy>
  <dcterms:modified xsi:type="dcterms:W3CDTF">2012-09-24T09:22:18Z</dcterms:modified>
  <cp:revision>5</cp:revision>
  <dc:subject/>
  <dc:title>NOMEK 2012</dc:title>
</cp:coreProperties>
</file>