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dt" idx="2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4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9CB25-50C7-4DC0-9DCA-E6E52F64F4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968AE-729B-457B-8C57-3AB70409AD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5B7E9-8A03-40D6-958E-797DCAD60892}" type="slidenum">
              <a:rPr b="1" lang="de-DE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5DB47-7C44-4132-B473-A0B089CBD4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8080" cy="4006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B4BBB-90F0-4072-9A85-928B7E3993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8080" cy="40068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858C-F8CB-44D5-9ABE-639A518E1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9145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840" y="3897720"/>
            <a:ext cx="9145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7734-F345-458D-81AC-59FFF0539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184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832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A811-7589-45E2-AC8B-B66DE9E2A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14240" y="140148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6640" y="140148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21840" y="389772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414240" y="389772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06640" y="3897720"/>
            <a:ext cx="2944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8F83-D6C4-4F79-B165-606A71A39B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21840" y="1401480"/>
            <a:ext cx="9145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3A28-A847-4555-8360-84CB0EF18C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91458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AB82-F742-4D00-B1A3-BE5A8132D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18C7-77E4-485F-B40B-D95483F02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B459-9225-4458-B7DF-15C00628A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5080" y="237960"/>
            <a:ext cx="914724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AFA9-124C-469D-8FCE-6FB0887CB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184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726A-D2D8-46B8-8A74-0A8385A07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08320" y="389772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5262-607B-4659-B91F-63390DF24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08320" y="1401480"/>
            <a:ext cx="44629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1840" y="3897720"/>
            <a:ext cx="914580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3116-08B3-4D04-AF31-DE80DA289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7737480" y="6307200"/>
            <a:ext cx="1811160" cy="444600"/>
            <a:chOff x="7737480" y="6307200"/>
            <a:chExt cx="1811160" cy="444600"/>
          </a:xfrm>
        </p:grpSpPr>
        <p:sp>
          <p:nvSpPr>
            <p:cNvPr id="1" name="Rectangle 2"/>
            <p:cNvSpPr/>
            <p:nvPr/>
          </p:nvSpPr>
          <p:spPr>
            <a:xfrm>
              <a:off x="7737480" y="6307200"/>
              <a:ext cx="18111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9166320" y="6475320"/>
              <a:ext cx="155520" cy="160560"/>
            </a:xfrm>
            <a:custGeom>
              <a:avLst/>
              <a:gdLst/>
              <a:ahLst/>
              <a:rect l="l" t="t" r="r" b="b"/>
              <a:pathLst>
                <a:path w="200" h="207">
                  <a:moveTo>
                    <a:pt x="128" y="0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69" y="163"/>
                    <a:pt x="69" y="163"/>
                    <a:pt x="69" y="163"/>
                  </a:cubicBezTo>
                  <a:cubicBezTo>
                    <a:pt x="130" y="163"/>
                    <a:pt x="130" y="163"/>
                    <a:pt x="130" y="163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200" y="207"/>
                    <a:pt x="200" y="207"/>
                    <a:pt x="200" y="207"/>
                  </a:cubicBezTo>
                  <a:lnTo>
                    <a:pt x="128" y="0"/>
                  </a:lnTo>
                  <a:close/>
                  <a:moveTo>
                    <a:pt x="81" y="125"/>
                  </a:moveTo>
                  <a:cubicBezTo>
                    <a:pt x="87" y="103"/>
                    <a:pt x="96" y="78"/>
                    <a:pt x="100" y="57"/>
                  </a:cubicBezTo>
                  <a:cubicBezTo>
                    <a:pt x="104" y="78"/>
                    <a:pt x="113" y="103"/>
                    <a:pt x="119" y="125"/>
                  </a:cubicBezTo>
                  <a:lnTo>
                    <a:pt x="81" y="125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0800" y="6472080"/>
              <a:ext cx="131760" cy="166680"/>
            </a:xfrm>
            <a:custGeom>
              <a:avLst/>
              <a:gdLst/>
              <a:ahLst/>
              <a:rect l="l" t="t" r="r" b="b"/>
              <a:pathLst>
                <a:path w="170" h="214">
                  <a:moveTo>
                    <a:pt x="113" y="84"/>
                  </a:moveTo>
                  <a:cubicBezTo>
                    <a:pt x="86" y="78"/>
                    <a:pt x="86" y="78"/>
                    <a:pt x="86" y="78"/>
                  </a:cubicBezTo>
                  <a:cubicBezTo>
                    <a:pt x="69" y="74"/>
                    <a:pt x="65" y="69"/>
                    <a:pt x="65" y="60"/>
                  </a:cubicBezTo>
                  <a:cubicBezTo>
                    <a:pt x="65" y="48"/>
                    <a:pt x="76" y="41"/>
                    <a:pt x="92" y="41"/>
                  </a:cubicBezTo>
                  <a:cubicBezTo>
                    <a:pt x="108" y="41"/>
                    <a:pt x="125" y="46"/>
                    <a:pt x="145" y="56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49" y="9"/>
                    <a:pt x="118" y="0"/>
                    <a:pt x="91" y="0"/>
                  </a:cubicBezTo>
                  <a:cubicBezTo>
                    <a:pt x="42" y="0"/>
                    <a:pt x="8" y="28"/>
                    <a:pt x="8" y="65"/>
                  </a:cubicBezTo>
                  <a:cubicBezTo>
                    <a:pt x="8" y="76"/>
                    <a:pt x="11" y="86"/>
                    <a:pt x="17" y="96"/>
                  </a:cubicBezTo>
                  <a:cubicBezTo>
                    <a:pt x="25" y="110"/>
                    <a:pt x="39" y="120"/>
                    <a:pt x="61" y="125"/>
                  </a:cubicBezTo>
                  <a:cubicBezTo>
                    <a:pt x="87" y="131"/>
                    <a:pt x="87" y="131"/>
                    <a:pt x="87" y="131"/>
                  </a:cubicBezTo>
                  <a:cubicBezTo>
                    <a:pt x="105" y="135"/>
                    <a:pt x="113" y="143"/>
                    <a:pt x="113" y="153"/>
                  </a:cubicBezTo>
                  <a:cubicBezTo>
                    <a:pt x="113" y="167"/>
                    <a:pt x="101" y="173"/>
                    <a:pt x="77" y="173"/>
                  </a:cubicBezTo>
                  <a:cubicBezTo>
                    <a:pt x="55" y="173"/>
                    <a:pt x="38" y="167"/>
                    <a:pt x="17" y="158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25" y="208"/>
                    <a:pt x="50" y="214"/>
                    <a:pt x="74" y="214"/>
                  </a:cubicBezTo>
                  <a:cubicBezTo>
                    <a:pt x="132" y="214"/>
                    <a:pt x="170" y="186"/>
                    <a:pt x="170" y="143"/>
                  </a:cubicBezTo>
                  <a:cubicBezTo>
                    <a:pt x="170" y="112"/>
                    <a:pt x="148" y="92"/>
                    <a:pt x="113" y="84"/>
                  </a:cubicBez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502480" y="6475320"/>
              <a:ext cx="189000" cy="160560"/>
            </a:xfrm>
            <a:custGeom>
              <a:avLst/>
              <a:gdLst/>
              <a:ahLst/>
              <a:rect l="l" t="t" r="r" b="b"/>
              <a:pathLst>
                <a:path w="243" h="207">
                  <a:moveTo>
                    <a:pt x="158" y="0"/>
                  </a:moveTo>
                  <a:cubicBezTo>
                    <a:pt x="131" y="94"/>
                    <a:pt x="131" y="94"/>
                    <a:pt x="131" y="94"/>
                  </a:cubicBezTo>
                  <a:cubicBezTo>
                    <a:pt x="127" y="106"/>
                    <a:pt x="124" y="121"/>
                    <a:pt x="122" y="133"/>
                  </a:cubicBezTo>
                  <a:cubicBezTo>
                    <a:pt x="119" y="120"/>
                    <a:pt x="117" y="110"/>
                    <a:pt x="113" y="96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52" y="207"/>
                    <a:pt x="52" y="207"/>
                    <a:pt x="52" y="207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9" y="93"/>
                    <a:pt x="60" y="76"/>
                    <a:pt x="60" y="62"/>
                  </a:cubicBezTo>
                  <a:cubicBezTo>
                    <a:pt x="63" y="79"/>
                    <a:pt x="67" y="97"/>
                    <a:pt x="70" y="106"/>
                  </a:cubicBezTo>
                  <a:cubicBezTo>
                    <a:pt x="98" y="207"/>
                    <a:pt x="98" y="207"/>
                    <a:pt x="98" y="207"/>
                  </a:cubicBezTo>
                  <a:cubicBezTo>
                    <a:pt x="142" y="207"/>
                    <a:pt x="142" y="207"/>
                    <a:pt x="142" y="207"/>
                  </a:cubicBezTo>
                  <a:cubicBezTo>
                    <a:pt x="173" y="103"/>
                    <a:pt x="173" y="103"/>
                    <a:pt x="173" y="103"/>
                  </a:cubicBezTo>
                  <a:cubicBezTo>
                    <a:pt x="176" y="92"/>
                    <a:pt x="181" y="78"/>
                    <a:pt x="183" y="66"/>
                  </a:cubicBezTo>
                  <a:cubicBezTo>
                    <a:pt x="184" y="81"/>
                    <a:pt x="185" y="93"/>
                    <a:pt x="186" y="104"/>
                  </a:cubicBezTo>
                  <a:cubicBezTo>
                    <a:pt x="192" y="207"/>
                    <a:pt x="192" y="207"/>
                    <a:pt x="192" y="207"/>
                  </a:cubicBezTo>
                  <a:cubicBezTo>
                    <a:pt x="243" y="207"/>
                    <a:pt x="243" y="207"/>
                    <a:pt x="243" y="207"/>
                  </a:cubicBezTo>
                  <a:cubicBezTo>
                    <a:pt x="222" y="0"/>
                    <a:pt x="222" y="0"/>
                    <a:pt x="222" y="0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8334360" y="6475320"/>
              <a:ext cx="130320" cy="163440"/>
            </a:xfrm>
            <a:custGeom>
              <a:avLst/>
              <a:gdLst/>
              <a:ahLst/>
              <a:rect l="l" t="t" r="r" b="b"/>
              <a:pathLst>
                <a:path w="168" h="211">
                  <a:moveTo>
                    <a:pt x="115" y="131"/>
                  </a:moveTo>
                  <a:cubicBezTo>
                    <a:pt x="115" y="152"/>
                    <a:pt x="112" y="158"/>
                    <a:pt x="108" y="161"/>
                  </a:cubicBezTo>
                  <a:cubicBezTo>
                    <a:pt x="103" y="166"/>
                    <a:pt x="94" y="170"/>
                    <a:pt x="84" y="170"/>
                  </a:cubicBezTo>
                  <a:cubicBezTo>
                    <a:pt x="72" y="170"/>
                    <a:pt x="62" y="166"/>
                    <a:pt x="57" y="159"/>
                  </a:cubicBezTo>
                  <a:cubicBezTo>
                    <a:pt x="53" y="154"/>
                    <a:pt x="53" y="147"/>
                    <a:pt x="53" y="13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60"/>
                    <a:pt x="3" y="173"/>
                    <a:pt x="12" y="184"/>
                  </a:cubicBezTo>
                  <a:cubicBezTo>
                    <a:pt x="25" y="202"/>
                    <a:pt x="52" y="211"/>
                    <a:pt x="86" y="211"/>
                  </a:cubicBezTo>
                  <a:cubicBezTo>
                    <a:pt x="118" y="211"/>
                    <a:pt x="139" y="200"/>
                    <a:pt x="150" y="189"/>
                  </a:cubicBezTo>
                  <a:cubicBezTo>
                    <a:pt x="162" y="178"/>
                    <a:pt x="168" y="168"/>
                    <a:pt x="168" y="138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15" y="131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9331200" y="6475320"/>
              <a:ext cx="130320" cy="160560"/>
            </a:xfrm>
            <a:custGeom>
              <a:avLst/>
              <a:gdLst/>
              <a:ahLst/>
              <a:rect l="l" t="t" r="r" b="b"/>
              <a:pathLst>
                <a:path w="167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3" y="41"/>
                    <a:pt x="53" y="41"/>
                    <a:pt x="53" y="41"/>
                  </a:cubicBezTo>
                  <a:cubicBezTo>
                    <a:pt x="53" y="207"/>
                    <a:pt x="53" y="207"/>
                    <a:pt x="53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7" y="0"/>
                    <a:pt x="1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8191440" y="6475320"/>
              <a:ext cx="103320" cy="160560"/>
            </a:xfrm>
            <a:custGeom>
              <a:avLst/>
              <a:gdLst/>
              <a:ahLst/>
              <a:rect l="l" t="t" r="r" b="b"/>
              <a:pathLst>
                <a:path w="133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1" y="79"/>
                    <a:pt x="51" y="79"/>
                    <a:pt x="51" y="7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0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3" y="207"/>
                    <a:pt x="133" y="207"/>
                    <a:pt x="133" y="207"/>
                  </a:cubicBezTo>
                  <a:cubicBezTo>
                    <a:pt x="133" y="165"/>
                    <a:pt x="133" y="165"/>
                    <a:pt x="133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8736120" y="6475320"/>
              <a:ext cx="102960" cy="160560"/>
            </a:xfrm>
            <a:custGeom>
              <a:avLst/>
              <a:gdLst/>
              <a:ahLst/>
              <a:rect l="l" t="t" r="r" b="b"/>
              <a:pathLst>
                <a:path w="134" h="207">
                  <a:moveTo>
                    <a:pt x="52" y="119"/>
                  </a:moveTo>
                  <a:cubicBezTo>
                    <a:pt x="112" y="119"/>
                    <a:pt x="112" y="119"/>
                    <a:pt x="112" y="119"/>
                  </a:cubicBezTo>
                  <a:cubicBezTo>
                    <a:pt x="112" y="79"/>
                    <a:pt x="112" y="79"/>
                    <a:pt x="11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112" y="40"/>
                    <a:pt x="112" y="40"/>
                    <a:pt x="112" y="40"/>
                  </a:cubicBezTo>
                  <a:cubicBezTo>
                    <a:pt x="121" y="33"/>
                    <a:pt x="128" y="13"/>
                    <a:pt x="131" y="4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34" y="165"/>
                    <a:pt x="134" y="165"/>
                    <a:pt x="134" y="165"/>
                  </a:cubicBezTo>
                  <a:cubicBezTo>
                    <a:pt x="52" y="165"/>
                    <a:pt x="52" y="165"/>
                    <a:pt x="52" y="165"/>
                  </a:cubicBezTo>
                  <a:lnTo>
                    <a:pt x="52" y="119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8867880" y="6475320"/>
              <a:ext cx="128520" cy="160560"/>
            </a:xfrm>
            <a:custGeom>
              <a:avLst/>
              <a:gdLst/>
              <a:ahLst/>
              <a:rect l="l" t="t" r="r" b="b"/>
              <a:pathLst>
                <a:path w="168" h="207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54" y="41"/>
                    <a:pt x="54" y="41"/>
                    <a:pt x="54" y="41"/>
                  </a:cubicBezTo>
                  <a:cubicBezTo>
                    <a:pt x="54" y="207"/>
                    <a:pt x="54" y="207"/>
                    <a:pt x="54" y="207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47" y="41"/>
                    <a:pt x="147" y="41"/>
                    <a:pt x="147" y="41"/>
                  </a:cubicBezTo>
                  <a:cubicBezTo>
                    <a:pt x="159" y="33"/>
                    <a:pt x="168" y="0"/>
                    <a:pt x="16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2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" name="Picture 11" descr=""/>
            <p:cNvPicPr/>
            <p:nvPr/>
          </p:nvPicPr>
          <p:blipFill>
            <a:blip r:embed="rId3"/>
            <a:stretch/>
          </p:blipFill>
          <p:spPr>
            <a:xfrm>
              <a:off x="7824960" y="6391440"/>
              <a:ext cx="276120" cy="27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Group 12"/>
          <p:cNvGrpSpPr/>
          <p:nvPr/>
        </p:nvGrpSpPr>
        <p:grpSpPr>
          <a:xfrm>
            <a:off x="4680" y="1090440"/>
            <a:ext cx="9898200" cy="125640"/>
            <a:chOff x="4680" y="1090440"/>
            <a:chExt cx="9898200" cy="125640"/>
          </a:xfrm>
        </p:grpSpPr>
        <p:sp>
          <p:nvSpPr>
            <p:cNvPr id="12" name="Rectangle 13"/>
            <p:cNvSpPr/>
            <p:nvPr/>
          </p:nvSpPr>
          <p:spPr>
            <a:xfrm>
              <a:off x="4680" y="1090440"/>
              <a:ext cx="385920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4059360" y="1090440"/>
              <a:ext cx="70308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4998960" y="1090440"/>
              <a:ext cx="23328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5518080" y="1090440"/>
              <a:ext cx="13824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6981840" y="1090440"/>
              <a:ext cx="2921040" cy="1256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7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321840" y="1401480"/>
            <a:ext cx="91458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256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sldNum" idx="1"/>
          </p:nvPr>
        </p:nvSpPr>
        <p:spPr>
          <a:xfrm>
            <a:off x="243000" y="6477120"/>
            <a:ext cx="7077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FE9B7C5C-7FA8-45F4-89E9-25F1181966F8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5440" y="237600"/>
            <a:ext cx="9150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Your shift will begin at 09 UTC and finish at 19 UT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91486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09.00 UTC Take part in the morning briefing (Vesa &amp; ...)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13.00-14.00 UTC Your shift starts . Monitor the weather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14.00-14.30 UTC Prepare your forecast for 15-18 UTC: draw on the map the areas where you expect lots of precipitation. (Page 2)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14.30-15.30 UTC monitor the development. Amend your forecast if needed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15.30-16.00 UTC Give a briefing to  the authorities about the situation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16.00-17.30 UTC Monitor the situation , prepare the analysis for briefing the night shift (Page 3). Take a break when/if you can …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17.30-18.30 UTC Verify your forecasts against the observations. 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2569"/>
                </a:solidFill>
                <a:latin typeface="Tahoma"/>
              </a:rPr>
              <a:t>18.30 The shift change and evening briefing (ALL). </a:t>
            </a:r>
            <a:endParaRPr b="0" lang="en-US" sz="1800" spc="-1" strike="noStrike">
              <a:solidFill>
                <a:srgbClr val="00256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5080" y="237600"/>
            <a:ext cx="9148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aw on the map the areas with precipitation 15-18 UTC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914724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a-DK" sz="24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1139760"/>
            <a:ext cx="9985320" cy="57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5080" y="237960"/>
            <a:ext cx="91486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Your analysis for night shift at 18 UTC.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Use the symbols / annotations you normally use at work.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1840" y="1401480"/>
            <a:ext cx="914724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a-DK" sz="2400" spc="-1" strike="noStrike">
              <a:solidFill>
                <a:srgbClr val="002569"/>
              </a:solidFill>
              <a:latin typeface="Tahoma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1139760"/>
            <a:ext cx="9985320" cy="57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kolestue</dc:creator>
  <dc:description/>
  <dc:language>en-US</dc:language>
  <cp:lastModifiedBy>Skolestue</cp:lastModifiedBy>
  <dcterms:modified xsi:type="dcterms:W3CDTF">2012-05-07T05:42:07Z</dcterms:modified>
  <cp:revision>2</cp:revision>
  <dc:subject/>
  <dc:title>Your shift will begin at 09 UTC and finish at 19 UTC</dc:title>
</cp:coreProperties>
</file>